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2C6-41C0-4C91-9E92-196D312BC3C8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BA7B-746C-454F-A284-CA27A1CA5535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37A2-3822-441F-84AD-F3FEE69A982A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F485-3412-4059-AA03-2524CB39AF47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FC3-5341-49F5-ADF8-C3C939EA4DDA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A6B-0E38-4262-ADDF-3DDD0F942660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1A55-749A-4808-B78E-448AF6301984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A96-6D14-4373-A17E-D93020E21B71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4E8C-1F15-43C8-AC99-B751A7F95D71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B7B-8F8B-4A72-89E0-71F32F02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D8E-B250-424B-BEC2-76A57F32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5956B-5785-49C9-9BA5-0779EAD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E010F-AAF7-4D2D-B75F-B63DD99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BBED8-0900-4DD6-A664-7AF9FC0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2B1E0-C4C6-4784-BD35-842D317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69353-CB5D-4846-AC4D-103512D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836D9-82C8-46E2-B506-BBFE787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59A1-A999-40B9-92BE-69FA606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8309-986E-4B8C-AD08-2DEC30B5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59EA-AA73-4B6B-BD48-36DA2AB5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7B7A8-681F-488F-9FCD-E28229F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AF4-F790-4B1D-952D-EA6D1BFA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B060A-81CD-45FC-B64F-47321E24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5E326-D1F3-464B-8022-A858EC3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4791D-527B-4C54-8B47-65FC7EB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77407-2888-4617-8101-7605622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D30E5-CA44-4F30-826E-51628C5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20B07-8A62-4946-830E-8790B01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2F6F8-9534-46AD-8380-6B5CFFD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56106-8C1E-4C87-9942-714122E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845A3-DA36-4ABE-AD24-8D47938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A9B46-9FEA-45CD-B90D-3F7E901B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510-DE1A-4396-B549-23A14D9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CD1C0-0FB9-4BA0-9501-ECEC94D7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E911-934F-4D9E-B795-A059C831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E4D3E-57E7-4A5C-93BA-E210412A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16D77-E1D5-4281-981A-A40237DD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F258-125A-41A6-99D3-FFA77A8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1A018-1E50-4ACA-AD42-807CFEF5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2C3D9-A0C7-481F-8903-A0BCF8F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789B-7B8A-4843-BFC2-F81C021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12CE8-4D83-4934-BDBA-29FEFFE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9078B-62BD-4783-8933-A9D904D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933B-DE6C-408D-9B19-03A5529D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BE3F-F4B0-44EE-AA69-CBDA755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6312-582D-4345-8CE6-EA347152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34823-A8E2-448E-BE02-010E4F5A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2BF50-F87D-42B2-801D-B821AA46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CD0A5-1E49-4DDB-AF3E-97BAE6D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CE584-B958-4B37-BC15-FEB6C5D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E4898-4B47-4BBF-9317-2FD6E2B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A32B-EB5F-49F9-90D8-8F25C4EE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5C5CF-0196-4DA0-AB72-B20ED68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484F-5B01-49CE-BD18-5A59ED7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0990-5062-4B35-B842-06A9807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57FF0-0CA4-4C96-8DAD-058B6CD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A4981-2AB2-4C07-A926-9C052FFB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B81A6-9F0B-4F1E-9565-C6ED73BB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552AC-95E4-4D13-9276-CCC8BD1D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0EC7B-519B-435F-AD79-5072C28F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D03FA-07BD-4B47-8B4F-5FDC8714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E773E-DB80-4CA0-B1D7-06E93F7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10ADE-0788-413C-90BD-E6F8CA2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C7BED-2634-422C-A3BE-35BE4BA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5A1AC-0AF3-432C-B92D-B3E3FE5E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C715-F517-4F13-9A32-E20485D8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A8D4D-A184-4ADF-B2A4-E90FF65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144B3-F022-489D-92F7-52BD380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0E419-63AF-4C85-818F-4B85298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BE51E-8CD9-40B9-B9DD-23A6A48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9E3AA-6C5E-4194-A6DD-72F88653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4D7CB-96F9-49A5-B9FF-90A03967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64D46-EE7C-45C4-AB79-766E98F6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A3A3-4488-485A-AFDA-0826EAED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871-CFB0-48AE-A7FA-D207AD5B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73C-7799-4A55-9896-0EB986E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80A8-F7D0-4ACB-9070-721494E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D3F-43F3-432F-A64B-CA5519B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550F-ECFC-4097-A6F8-DA1DD8D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EF56-2B1F-44E7-A870-0AC8CDC8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3784-35ED-4EB4-940D-4595F672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6B13-0898-493D-B8BE-46F5D120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52D2-C4EC-4F10-8991-F59C5B11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F5C7-A7DD-4809-98BB-A7866235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8A58-C522-4ABB-9F10-7E376FF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5329-7F9E-4147-BFB2-E500E3E1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86BB-5455-46F2-8BB6-2035CAF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3AB3-C0DD-4224-8AA9-3C726A55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77F-EFBD-4380-807F-BD13127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9B2B-0C2E-4F31-915E-18DAE451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CD39-4104-481F-A560-CB014377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C6DE-EE46-4CCF-A300-E56F5A2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D1AA-C75F-4EB5-B66C-851A3BD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8D92-AA64-4F7F-9B84-65865DC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CF7E-DD99-4D75-AB0D-C584BF6E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1653-9CCC-4A72-944A-A8B69A64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0719-13C9-4577-BD7A-A529249C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B665-1045-40DC-93FB-8E960459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E3A2-B22C-4FE4-92FC-E0D46E51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EDA-71CC-4A79-B2E5-81388792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0CA9-0A8F-45EF-8805-F6DD718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C07F-B2FA-44FC-9CF6-FC4A02A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37F1-1F43-43C7-AD1E-51FEE5C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D1B3-8354-4E70-9E3C-F8EC090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9842-AEC6-42A9-9415-2AC2D4C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8751-F4F6-4D05-B318-B8CE669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6D93-0F15-40E0-A979-D3A1108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9948-83F7-4D0C-BF9D-9B98E5A7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DFBB-9C16-4DE4-B4E1-023D5540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14D0-2DA9-47CD-909F-A3A58E5B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601-86D6-4EB4-A228-030BEECF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D23E-FD56-411B-8030-EC7558A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B167-6BA5-46EE-BD1A-BD510F1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48BA6-EDEC-49C8-B660-A9DC2A4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4DFAA-46A1-4D8B-87F7-48354C7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4F8EE-0E64-417A-993F-915BBEE8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4707-CA29-403B-803B-B720C3E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29D7-E55C-405C-B82E-454701D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EB943-7BE3-465F-B84F-2368887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77BB-1598-4023-A4CF-56DB15E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DF14-45CD-4812-B755-9BFEF9A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F0A-46FC-4E8D-9444-AAB0B84A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D93C-779B-4902-A4FF-BEC0478A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7635-86D9-42B1-B6AA-0765DFEC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A828-715C-4D5D-B57B-DA5C640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E794-3D24-46CE-A886-15FE496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D22A-0590-4BF1-AC52-187A084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BBC3-C453-40C6-A638-8DFE11B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F653-2A07-403B-A95D-5FB9A4A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C21B-16D4-4580-9DB5-AC3BBDF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EAAD-8E47-4B75-B3D5-C0B46FF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10BC-186F-4FFC-B0B9-F4615BF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B18-66D6-46AF-A134-BFD8001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961C-4F18-4A12-AE95-D8763A20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89AC-EB03-4554-A4C9-9F2D0021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09EF-79A1-4771-BA7B-32673308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1092-C101-42A6-9B32-7E6CFC9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59E8-B744-46BA-9643-551E2B5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E87A-5FA7-4407-8C4C-F2D2C87B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F3C1D-2AAD-4329-A34D-56B5975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6C7D-F8A4-4DD9-8A5D-DAF0939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0DAC-12DC-4032-8281-3D3D25A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8E59-2F22-4F75-8A20-F1AE708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F52-EB2C-4A4A-B2E7-4C994A3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0F3D-6F6A-4A19-BDF0-C08EB0B7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2AA0-0049-4BB8-AD0A-BF6E9D6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5FBE-D006-410A-A104-4A47A3D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697C-C8ED-4429-8722-93F88A09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B2A5-2A70-47EC-903F-6779E87E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4357-E178-4099-8003-AFBEA0EB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5FE27-85FF-440C-B7D7-145006F3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559B-E93E-464A-AD11-DD96A5A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4F4F-8599-4FA8-BCCC-9FA3C0D9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5EAE-0B40-4BB1-92C2-9F84454C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181-0E1C-46C5-A05E-75E49D5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22360" y="1126800"/>
            <a:ext cx="80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7778B-A6D0-4AE3-B1D5-B19EEC2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FA69-E9DF-47A6-8371-2229F57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EBF6-68CC-44C0-8480-C78460F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FD14-6926-41B6-B1B4-B7DF79B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2360" y="3742200"/>
            <a:ext cx="80992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7AF1-9615-4EA5-A914-6B745DC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800" y="183312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2236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2800" y="3742200"/>
            <a:ext cx="3952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4025-96E6-4996-9041-408619C2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6088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99760" y="183312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23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6088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99760" y="3742200"/>
            <a:ext cx="2607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6B2FA-A774-403C-9E9C-CEECD91A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8B79-8C24-451D-951D-B08BF482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32623-9ACC-40D3-A3B4-9202B33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6953C-8D78-4076-B68C-086E5EDF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631476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6DB9-8793-42EE-8FA0-D97CB4F12F8B}" type="slidenum">
              <a:rPr b="0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D621-31EB-437B-ABEF-2402BDAB2FBF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938-D98D-45D5-9790-0DE7DB9F11F5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F8A-14E0-468A-BA4B-5584CE546350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等腰三角形 15"/>
          <p:cNvGrpSpPr/>
          <p:nvPr/>
        </p:nvGrpSpPr>
        <p:grpSpPr>
          <a:xfrm>
            <a:off x="6954840" y="3865680"/>
            <a:ext cx="2347920" cy="2071440"/>
            <a:chOff x="6954840" y="3865680"/>
            <a:chExt cx="2347920" cy="2071440"/>
          </a:xfrm>
        </p:grpSpPr>
        <p:pic>
          <p:nvPicPr>
            <p:cNvPr id="515" name="等腰三角形 15" descr=""/>
            <p:cNvPicPr/>
            <p:nvPr/>
          </p:nvPicPr>
          <p:blipFill>
            <a:blip r:embed="rId2"/>
            <a:stretch/>
          </p:blipFill>
          <p:spPr>
            <a:xfrm>
              <a:off x="6954840" y="3865680"/>
              <a:ext cx="234792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 rot="13818600">
              <a:off x="8009640" y="3922920"/>
              <a:ext cx="312840" cy="19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图片 9" descr=""/>
          <p:cNvPicPr/>
          <p:nvPr/>
        </p:nvPicPr>
        <p:blipFill>
          <a:blip r:embed="rId3"/>
          <a:stretch/>
        </p:blipFill>
        <p:spPr>
          <a:xfrm>
            <a:off x="7284960" y="3638520"/>
            <a:ext cx="1859040" cy="3225960"/>
          </a:xfrm>
          <a:prstGeom prst="rect">
            <a:avLst/>
          </a:prstGeom>
          <a:ln w="0">
            <a:noFill/>
          </a:ln>
        </p:spPr>
      </p:pic>
      <p:sp>
        <p:nvSpPr>
          <p:cNvPr id="518" name="iconfont-10342-5064101"/>
          <p:cNvSpPr/>
          <p:nvPr/>
        </p:nvSpPr>
        <p:spPr>
          <a:xfrm>
            <a:off x="628560" y="3657600"/>
            <a:ext cx="324000" cy="324000"/>
          </a:xfrm>
          <a:custGeom>
            <a:avLst/>
            <a:gdLst/>
            <a:ahLst/>
            <a:rect l="l" t="t" r="r" b="b"/>
            <a:pathLst>
              <a:path w="8720" h="8720">
                <a:moveTo>
                  <a:pt x="4360" y="8720"/>
                </a:moveTo>
                <a:cubicBezTo>
                  <a:pt x="1960" y="8720"/>
                  <a:pt x="0" y="6760"/>
                  <a:pt x="0" y="4360"/>
                </a:cubicBezTo>
                <a:cubicBezTo>
                  <a:pt x="0" y="1960"/>
                  <a:pt x="1960" y="0"/>
                  <a:pt x="4360" y="0"/>
                </a:cubicBezTo>
                <a:cubicBezTo>
                  <a:pt x="6760" y="0"/>
                  <a:pt x="8720" y="1960"/>
                  <a:pt x="8720" y="4360"/>
                </a:cubicBezTo>
                <a:cubicBezTo>
                  <a:pt x="8720" y="6760"/>
                  <a:pt x="6760" y="8720"/>
                  <a:pt x="4360" y="8720"/>
                </a:cubicBezTo>
                <a:close/>
                <a:moveTo>
                  <a:pt x="6520" y="5320"/>
                </a:moveTo>
                <a:cubicBezTo>
                  <a:pt x="6400" y="5240"/>
                  <a:pt x="6280" y="5200"/>
                  <a:pt x="6120" y="5160"/>
                </a:cubicBezTo>
                <a:cubicBezTo>
                  <a:pt x="5760" y="5080"/>
                  <a:pt x="5320" y="5040"/>
                  <a:pt x="5040" y="4680"/>
                </a:cubicBezTo>
                <a:cubicBezTo>
                  <a:pt x="5040" y="4680"/>
                  <a:pt x="4880" y="4520"/>
                  <a:pt x="5240" y="4120"/>
                </a:cubicBezTo>
                <a:cubicBezTo>
                  <a:pt x="5600" y="3720"/>
                  <a:pt x="5600" y="3080"/>
                  <a:pt x="5520" y="2600"/>
                </a:cubicBezTo>
                <a:cubicBezTo>
                  <a:pt x="5440" y="2120"/>
                  <a:pt x="4960" y="1800"/>
                  <a:pt x="4440" y="1800"/>
                </a:cubicBezTo>
                <a:cubicBezTo>
                  <a:pt x="3920" y="1800"/>
                  <a:pt x="3440" y="2120"/>
                  <a:pt x="3360" y="2600"/>
                </a:cubicBezTo>
                <a:cubicBezTo>
                  <a:pt x="3280" y="3080"/>
                  <a:pt x="3320" y="3720"/>
                  <a:pt x="3640" y="4120"/>
                </a:cubicBezTo>
                <a:cubicBezTo>
                  <a:pt x="4000" y="4520"/>
                  <a:pt x="3840" y="4680"/>
                  <a:pt x="3840" y="4680"/>
                </a:cubicBezTo>
                <a:cubicBezTo>
                  <a:pt x="3560" y="5040"/>
                  <a:pt x="3120" y="5080"/>
                  <a:pt x="2760" y="5160"/>
                </a:cubicBezTo>
                <a:cubicBezTo>
                  <a:pt x="2600" y="5200"/>
                  <a:pt x="2480" y="5240"/>
                  <a:pt x="2360" y="5320"/>
                </a:cubicBezTo>
                <a:cubicBezTo>
                  <a:pt x="2120" y="5440"/>
                  <a:pt x="2240" y="6520"/>
                  <a:pt x="2240" y="6520"/>
                </a:cubicBezTo>
                <a:lnTo>
                  <a:pt x="6600" y="6520"/>
                </a:lnTo>
                <a:cubicBezTo>
                  <a:pt x="6520" y="6520"/>
                  <a:pt x="6600" y="5480"/>
                  <a:pt x="6520" y="5320"/>
                </a:cubicBezTo>
                <a:close/>
              </a:path>
            </a:pathLst>
          </a:custGeom>
          <a:solidFill>
            <a:srgbClr val="e65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BA3-8B97-47FF-ABBB-9C80D2F87BC5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200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562428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6568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5AA-E96A-47F0-952A-A2277726AE35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等腰三角形 15"/>
          <p:cNvGrpSpPr/>
          <p:nvPr/>
        </p:nvGrpSpPr>
        <p:grpSpPr>
          <a:xfrm>
            <a:off x="6954840" y="3865680"/>
            <a:ext cx="2347920" cy="2071440"/>
            <a:chOff x="6954840" y="3865680"/>
            <a:chExt cx="2347920" cy="2071440"/>
          </a:xfrm>
        </p:grpSpPr>
        <p:pic>
          <p:nvPicPr>
            <p:cNvPr id="84" name="等腰三角形 15" descr=""/>
            <p:cNvPicPr/>
            <p:nvPr/>
          </p:nvPicPr>
          <p:blipFill>
            <a:blip r:embed="rId2"/>
            <a:stretch/>
          </p:blipFill>
          <p:spPr>
            <a:xfrm>
              <a:off x="6954840" y="3865680"/>
              <a:ext cx="234792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13818600">
              <a:off x="8009640" y="3922920"/>
              <a:ext cx="312840" cy="19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9" descr=""/>
          <p:cNvPicPr/>
          <p:nvPr/>
        </p:nvPicPr>
        <p:blipFill>
          <a:blip r:embed="rId3"/>
          <a:stretch/>
        </p:blipFill>
        <p:spPr>
          <a:xfrm>
            <a:off x="7284960" y="3638520"/>
            <a:ext cx="1859040" cy="3225960"/>
          </a:xfrm>
          <a:prstGeom prst="rect">
            <a:avLst/>
          </a:prstGeom>
          <a:ln w="0">
            <a:noFill/>
          </a:ln>
        </p:spPr>
      </p:pic>
      <p:sp>
        <p:nvSpPr>
          <p:cNvPr id="87" name="iconfont-10342-5064101"/>
          <p:cNvSpPr/>
          <p:nvPr/>
        </p:nvSpPr>
        <p:spPr>
          <a:xfrm>
            <a:off x="628560" y="3898800"/>
            <a:ext cx="324000" cy="325440"/>
          </a:xfrm>
          <a:custGeom>
            <a:avLst/>
            <a:gdLst/>
            <a:ahLst/>
            <a:rect l="l" t="t" r="r" b="b"/>
            <a:pathLst>
              <a:path w="8720" h="8720">
                <a:moveTo>
                  <a:pt x="4360" y="8720"/>
                </a:moveTo>
                <a:cubicBezTo>
                  <a:pt x="1960" y="8720"/>
                  <a:pt x="0" y="6760"/>
                  <a:pt x="0" y="4360"/>
                </a:cubicBezTo>
                <a:cubicBezTo>
                  <a:pt x="0" y="1960"/>
                  <a:pt x="1960" y="0"/>
                  <a:pt x="4360" y="0"/>
                </a:cubicBezTo>
                <a:cubicBezTo>
                  <a:pt x="6760" y="0"/>
                  <a:pt x="8720" y="1960"/>
                  <a:pt x="8720" y="4360"/>
                </a:cubicBezTo>
                <a:cubicBezTo>
                  <a:pt x="8720" y="6760"/>
                  <a:pt x="6760" y="8720"/>
                  <a:pt x="4360" y="8720"/>
                </a:cubicBezTo>
                <a:close/>
                <a:moveTo>
                  <a:pt x="6520" y="5320"/>
                </a:moveTo>
                <a:cubicBezTo>
                  <a:pt x="6400" y="5240"/>
                  <a:pt x="6280" y="5200"/>
                  <a:pt x="6120" y="5160"/>
                </a:cubicBezTo>
                <a:cubicBezTo>
                  <a:pt x="5760" y="5080"/>
                  <a:pt x="5320" y="5040"/>
                  <a:pt x="5040" y="4680"/>
                </a:cubicBezTo>
                <a:cubicBezTo>
                  <a:pt x="5040" y="4680"/>
                  <a:pt x="4880" y="4520"/>
                  <a:pt x="5240" y="4120"/>
                </a:cubicBezTo>
                <a:cubicBezTo>
                  <a:pt x="5600" y="3720"/>
                  <a:pt x="5600" y="3080"/>
                  <a:pt x="5520" y="2600"/>
                </a:cubicBezTo>
                <a:cubicBezTo>
                  <a:pt x="5440" y="2120"/>
                  <a:pt x="4960" y="1800"/>
                  <a:pt x="4440" y="1800"/>
                </a:cubicBezTo>
                <a:cubicBezTo>
                  <a:pt x="3920" y="1800"/>
                  <a:pt x="3440" y="2120"/>
                  <a:pt x="3360" y="2600"/>
                </a:cubicBezTo>
                <a:cubicBezTo>
                  <a:pt x="3280" y="3080"/>
                  <a:pt x="3320" y="3720"/>
                  <a:pt x="3640" y="4120"/>
                </a:cubicBezTo>
                <a:cubicBezTo>
                  <a:pt x="4000" y="4520"/>
                  <a:pt x="3840" y="4680"/>
                  <a:pt x="3840" y="4680"/>
                </a:cubicBezTo>
                <a:cubicBezTo>
                  <a:pt x="3560" y="5040"/>
                  <a:pt x="3120" y="5080"/>
                  <a:pt x="2760" y="5160"/>
                </a:cubicBezTo>
                <a:cubicBezTo>
                  <a:pt x="2600" y="5200"/>
                  <a:pt x="2480" y="5240"/>
                  <a:pt x="2360" y="5320"/>
                </a:cubicBezTo>
                <a:cubicBezTo>
                  <a:pt x="2120" y="5440"/>
                  <a:pt x="2240" y="6520"/>
                  <a:pt x="2240" y="6520"/>
                </a:cubicBezTo>
                <a:lnTo>
                  <a:pt x="6600" y="6520"/>
                </a:lnTo>
                <a:cubicBezTo>
                  <a:pt x="6520" y="6520"/>
                  <a:pt x="6600" y="5480"/>
                  <a:pt x="6520" y="5320"/>
                </a:cubicBezTo>
                <a:close/>
              </a:path>
            </a:pathLst>
          </a:custGeom>
          <a:solidFill>
            <a:srgbClr val="e65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006-CE36-407A-AA2E-B7BFFF6EA96E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FFD-3833-4725-8840-B6FCD52F7D89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8"/>
          <p:cNvSpPr/>
          <p:nvPr/>
        </p:nvSpPr>
        <p:spPr>
          <a:xfrm>
            <a:off x="892080" y="4192560"/>
            <a:ext cx="1443240" cy="196920"/>
          </a:xfrm>
          <a:custGeom>
            <a:avLst/>
            <a:gdLst/>
            <a:ahLst/>
            <a:rect l="l" t="t" r="r" b="b"/>
            <a:pathLst>
              <a:path w="1923124" h="261049">
                <a:moveTo>
                  <a:pt x="377632" y="28738"/>
                </a:moveTo>
                <a:cubicBezTo>
                  <a:pt x="354000" y="28738"/>
                  <a:pt x="333665" y="36854"/>
                  <a:pt x="316629" y="53088"/>
                </a:cubicBezTo>
                <a:cubicBezTo>
                  <a:pt x="299593" y="69321"/>
                  <a:pt x="291075" y="96424"/>
                  <a:pt x="291075" y="134397"/>
                </a:cubicBezTo>
                <a:cubicBezTo>
                  <a:pt x="291075" y="164798"/>
                  <a:pt x="299249" y="188746"/>
                  <a:pt x="315597" y="206241"/>
                </a:cubicBezTo>
                <a:cubicBezTo>
                  <a:pt x="331944" y="223736"/>
                  <a:pt x="352451" y="232484"/>
                  <a:pt x="377116" y="232484"/>
                </a:cubicBezTo>
                <a:cubicBezTo>
                  <a:pt x="402240" y="232484"/>
                  <a:pt x="422919" y="223650"/>
                  <a:pt x="439152" y="205983"/>
                </a:cubicBezTo>
                <a:cubicBezTo>
                  <a:pt x="455385" y="188316"/>
                  <a:pt x="463502" y="163249"/>
                  <a:pt x="463502" y="130783"/>
                </a:cubicBezTo>
                <a:cubicBezTo>
                  <a:pt x="463502" y="110248"/>
                  <a:pt x="460031" y="92322"/>
                  <a:pt x="453091" y="77007"/>
                </a:cubicBezTo>
                <a:cubicBezTo>
                  <a:pt x="446150" y="61692"/>
                  <a:pt x="435997" y="49818"/>
                  <a:pt x="422632" y="41386"/>
                </a:cubicBezTo>
                <a:cubicBezTo>
                  <a:pt x="409267" y="32954"/>
                  <a:pt x="394267" y="28738"/>
                  <a:pt x="377632" y="28738"/>
                </a:cubicBezTo>
                <a:close/>
                <a:moveTo>
                  <a:pt x="1495657" y="4474"/>
                </a:moveTo>
                <a:lnTo>
                  <a:pt x="1695617" y="4474"/>
                </a:lnTo>
                <a:lnTo>
                  <a:pt x="1695617" y="34245"/>
                </a:lnTo>
                <a:lnTo>
                  <a:pt x="1612157" y="34245"/>
                </a:lnTo>
                <a:lnTo>
                  <a:pt x="1612157" y="256747"/>
                </a:lnTo>
                <a:lnTo>
                  <a:pt x="1578773" y="256747"/>
                </a:lnTo>
                <a:lnTo>
                  <a:pt x="1578773" y="34245"/>
                </a:lnTo>
                <a:lnTo>
                  <a:pt x="1495657" y="34245"/>
                </a:lnTo>
                <a:lnTo>
                  <a:pt x="1495657" y="4474"/>
                </a:lnTo>
                <a:close/>
                <a:moveTo>
                  <a:pt x="1257067" y="4474"/>
                </a:moveTo>
                <a:lnTo>
                  <a:pt x="1291312" y="4474"/>
                </a:lnTo>
                <a:lnTo>
                  <a:pt x="1423815" y="202541"/>
                </a:lnTo>
                <a:lnTo>
                  <a:pt x="1423815" y="4474"/>
                </a:lnTo>
                <a:lnTo>
                  <a:pt x="1455822" y="4474"/>
                </a:lnTo>
                <a:lnTo>
                  <a:pt x="1455822" y="256747"/>
                </a:lnTo>
                <a:lnTo>
                  <a:pt x="1421578" y="256747"/>
                </a:lnTo>
                <a:lnTo>
                  <a:pt x="1289074" y="58508"/>
                </a:lnTo>
                <a:lnTo>
                  <a:pt x="1289074" y="256747"/>
                </a:lnTo>
                <a:lnTo>
                  <a:pt x="1257067" y="256747"/>
                </a:lnTo>
                <a:lnTo>
                  <a:pt x="1257067" y="4474"/>
                </a:lnTo>
                <a:close/>
                <a:moveTo>
                  <a:pt x="1019974" y="4474"/>
                </a:moveTo>
                <a:lnTo>
                  <a:pt x="1202382" y="4474"/>
                </a:lnTo>
                <a:lnTo>
                  <a:pt x="1202382" y="34245"/>
                </a:lnTo>
                <a:lnTo>
                  <a:pt x="1053358" y="34245"/>
                </a:lnTo>
                <a:lnTo>
                  <a:pt x="1053358" y="111510"/>
                </a:lnTo>
                <a:lnTo>
                  <a:pt x="1192917" y="111510"/>
                </a:lnTo>
                <a:lnTo>
                  <a:pt x="1192917" y="141108"/>
                </a:lnTo>
                <a:lnTo>
                  <a:pt x="1053358" y="141108"/>
                </a:lnTo>
                <a:lnTo>
                  <a:pt x="1053358" y="226977"/>
                </a:lnTo>
                <a:lnTo>
                  <a:pt x="1208233" y="226977"/>
                </a:lnTo>
                <a:lnTo>
                  <a:pt x="1208233" y="256747"/>
                </a:lnTo>
                <a:lnTo>
                  <a:pt x="1019974" y="256747"/>
                </a:lnTo>
                <a:lnTo>
                  <a:pt x="1019974" y="4474"/>
                </a:lnTo>
                <a:close/>
                <a:moveTo>
                  <a:pt x="781282" y="4474"/>
                </a:moveTo>
                <a:lnTo>
                  <a:pt x="981242" y="4474"/>
                </a:lnTo>
                <a:lnTo>
                  <a:pt x="981242" y="34245"/>
                </a:lnTo>
                <a:lnTo>
                  <a:pt x="897782" y="34245"/>
                </a:lnTo>
                <a:lnTo>
                  <a:pt x="897782" y="256747"/>
                </a:lnTo>
                <a:lnTo>
                  <a:pt x="864398" y="256747"/>
                </a:lnTo>
                <a:lnTo>
                  <a:pt x="864398" y="34245"/>
                </a:lnTo>
                <a:lnTo>
                  <a:pt x="781282" y="34245"/>
                </a:lnTo>
                <a:lnTo>
                  <a:pt x="781282" y="4474"/>
                </a:lnTo>
                <a:close/>
                <a:moveTo>
                  <a:pt x="542692" y="4474"/>
                </a:moveTo>
                <a:lnTo>
                  <a:pt x="576936" y="4474"/>
                </a:lnTo>
                <a:lnTo>
                  <a:pt x="709440" y="202541"/>
                </a:lnTo>
                <a:lnTo>
                  <a:pt x="709440" y="4474"/>
                </a:lnTo>
                <a:lnTo>
                  <a:pt x="741447" y="4474"/>
                </a:lnTo>
                <a:lnTo>
                  <a:pt x="741447" y="256747"/>
                </a:lnTo>
                <a:lnTo>
                  <a:pt x="707203" y="256747"/>
                </a:lnTo>
                <a:lnTo>
                  <a:pt x="574699" y="58508"/>
                </a:lnTo>
                <a:lnTo>
                  <a:pt x="574699" y="256747"/>
                </a:lnTo>
                <a:lnTo>
                  <a:pt x="542692" y="256747"/>
                </a:lnTo>
                <a:lnTo>
                  <a:pt x="542692" y="4474"/>
                </a:lnTo>
                <a:close/>
                <a:moveTo>
                  <a:pt x="1820735" y="172"/>
                </a:moveTo>
                <a:cubicBezTo>
                  <a:pt x="1839435" y="172"/>
                  <a:pt x="1855926" y="3184"/>
                  <a:pt x="1870209" y="9207"/>
                </a:cubicBezTo>
                <a:cubicBezTo>
                  <a:pt x="1884492" y="15229"/>
                  <a:pt x="1895476" y="24092"/>
                  <a:pt x="1903163" y="35793"/>
                </a:cubicBezTo>
                <a:cubicBezTo>
                  <a:pt x="1910849" y="47495"/>
                  <a:pt x="1914979" y="60745"/>
                  <a:pt x="1915552" y="75544"/>
                </a:cubicBezTo>
                <a:lnTo>
                  <a:pt x="1883545" y="77954"/>
                </a:lnTo>
                <a:cubicBezTo>
                  <a:pt x="1881824" y="62007"/>
                  <a:pt x="1876002" y="49961"/>
                  <a:pt x="1866079" y="41816"/>
                </a:cubicBezTo>
                <a:cubicBezTo>
                  <a:pt x="1856155" y="33671"/>
                  <a:pt x="1841500" y="29598"/>
                  <a:pt x="1822112" y="29598"/>
                </a:cubicBezTo>
                <a:cubicBezTo>
                  <a:pt x="1801921" y="29598"/>
                  <a:pt x="1787208" y="33298"/>
                  <a:pt x="1777973" y="40698"/>
                </a:cubicBezTo>
                <a:cubicBezTo>
                  <a:pt x="1768737" y="48097"/>
                  <a:pt x="1764120" y="57017"/>
                  <a:pt x="1764120" y="67456"/>
                </a:cubicBezTo>
                <a:cubicBezTo>
                  <a:pt x="1764120" y="76519"/>
                  <a:pt x="1767389" y="83976"/>
                  <a:pt x="1773929" y="89827"/>
                </a:cubicBezTo>
                <a:cubicBezTo>
                  <a:pt x="1780353" y="95678"/>
                  <a:pt x="1797131" y="101672"/>
                  <a:pt x="1824263" y="107810"/>
                </a:cubicBezTo>
                <a:cubicBezTo>
                  <a:pt x="1851394" y="113947"/>
                  <a:pt x="1870008" y="119311"/>
                  <a:pt x="1880103" y="123900"/>
                </a:cubicBezTo>
                <a:cubicBezTo>
                  <a:pt x="1894788" y="130668"/>
                  <a:pt x="1905629" y="139244"/>
                  <a:pt x="1912627" y="149626"/>
                </a:cubicBezTo>
                <a:cubicBezTo>
                  <a:pt x="1919625" y="160008"/>
                  <a:pt x="1923124" y="171968"/>
                  <a:pt x="1923124" y="185505"/>
                </a:cubicBezTo>
                <a:cubicBezTo>
                  <a:pt x="1923124" y="198928"/>
                  <a:pt x="1919281" y="211576"/>
                  <a:pt x="1911595" y="223449"/>
                </a:cubicBezTo>
                <a:cubicBezTo>
                  <a:pt x="1903908" y="235323"/>
                  <a:pt x="1892866" y="244558"/>
                  <a:pt x="1878469" y="251155"/>
                </a:cubicBezTo>
                <a:cubicBezTo>
                  <a:pt x="1864071" y="257751"/>
                  <a:pt x="1847867" y="261049"/>
                  <a:pt x="1829855" y="261049"/>
                </a:cubicBezTo>
                <a:cubicBezTo>
                  <a:pt x="1807026" y="261049"/>
                  <a:pt x="1787896" y="257722"/>
                  <a:pt x="1772466" y="251069"/>
                </a:cubicBezTo>
                <a:cubicBezTo>
                  <a:pt x="1757036" y="244415"/>
                  <a:pt x="1744933" y="234405"/>
                  <a:pt x="1736156" y="221040"/>
                </a:cubicBezTo>
                <a:cubicBezTo>
                  <a:pt x="1727380" y="207675"/>
                  <a:pt x="1722763" y="192560"/>
                  <a:pt x="1722304" y="175696"/>
                </a:cubicBezTo>
                <a:lnTo>
                  <a:pt x="1753795" y="172943"/>
                </a:lnTo>
                <a:cubicBezTo>
                  <a:pt x="1755286" y="185562"/>
                  <a:pt x="1758757" y="195916"/>
                  <a:pt x="1764206" y="204004"/>
                </a:cubicBezTo>
                <a:cubicBezTo>
                  <a:pt x="1769655" y="212092"/>
                  <a:pt x="1778116" y="218631"/>
                  <a:pt x="1789588" y="223621"/>
                </a:cubicBezTo>
                <a:cubicBezTo>
                  <a:pt x="1801060" y="228612"/>
                  <a:pt x="1813967" y="231107"/>
                  <a:pt x="1828307" y="231107"/>
                </a:cubicBezTo>
                <a:cubicBezTo>
                  <a:pt x="1841041" y="231107"/>
                  <a:pt x="1852283" y="229214"/>
                  <a:pt x="1862035" y="225428"/>
                </a:cubicBezTo>
                <a:cubicBezTo>
                  <a:pt x="1871786" y="221642"/>
                  <a:pt x="1879042" y="216451"/>
                  <a:pt x="1883803" y="209855"/>
                </a:cubicBezTo>
                <a:cubicBezTo>
                  <a:pt x="1888564" y="203258"/>
                  <a:pt x="1890945" y="196059"/>
                  <a:pt x="1890945" y="188258"/>
                </a:cubicBezTo>
                <a:cubicBezTo>
                  <a:pt x="1890945" y="180343"/>
                  <a:pt x="1888650" y="173431"/>
                  <a:pt x="1884061" y="167522"/>
                </a:cubicBezTo>
                <a:cubicBezTo>
                  <a:pt x="1879472" y="161614"/>
                  <a:pt x="1871901" y="156653"/>
                  <a:pt x="1861347" y="152637"/>
                </a:cubicBezTo>
                <a:cubicBezTo>
                  <a:pt x="1854578" y="149999"/>
                  <a:pt x="1839607" y="145897"/>
                  <a:pt x="1816433" y="140333"/>
                </a:cubicBezTo>
                <a:cubicBezTo>
                  <a:pt x="1793259" y="134769"/>
                  <a:pt x="1777026" y="129521"/>
                  <a:pt x="1767734" y="124588"/>
                </a:cubicBezTo>
                <a:cubicBezTo>
                  <a:pt x="1755688" y="118278"/>
                  <a:pt x="1746711" y="110448"/>
                  <a:pt x="1740803" y="101099"/>
                </a:cubicBezTo>
                <a:cubicBezTo>
                  <a:pt x="1734895" y="91749"/>
                  <a:pt x="1731940" y="81280"/>
                  <a:pt x="1731940" y="69694"/>
                </a:cubicBezTo>
                <a:cubicBezTo>
                  <a:pt x="1731940" y="56959"/>
                  <a:pt x="1735554" y="45057"/>
                  <a:pt x="1742782" y="33986"/>
                </a:cubicBezTo>
                <a:cubicBezTo>
                  <a:pt x="1750009" y="22916"/>
                  <a:pt x="1760563" y="14512"/>
                  <a:pt x="1774445" y="8776"/>
                </a:cubicBezTo>
                <a:cubicBezTo>
                  <a:pt x="1788326" y="3040"/>
                  <a:pt x="1803756" y="172"/>
                  <a:pt x="1820735" y="172"/>
                </a:cubicBezTo>
                <a:close/>
                <a:moveTo>
                  <a:pt x="119081" y="172"/>
                </a:moveTo>
                <a:cubicBezTo>
                  <a:pt x="144319" y="172"/>
                  <a:pt x="165543" y="6597"/>
                  <a:pt x="182751" y="19445"/>
                </a:cubicBezTo>
                <a:cubicBezTo>
                  <a:pt x="199959" y="32294"/>
                  <a:pt x="211948" y="50363"/>
                  <a:pt x="218716" y="73651"/>
                </a:cubicBezTo>
                <a:lnTo>
                  <a:pt x="185849" y="81395"/>
                </a:lnTo>
                <a:cubicBezTo>
                  <a:pt x="179998" y="63040"/>
                  <a:pt x="171509" y="49675"/>
                  <a:pt x="160380" y="41300"/>
                </a:cubicBezTo>
                <a:cubicBezTo>
                  <a:pt x="149252" y="32925"/>
                  <a:pt x="135257" y="28738"/>
                  <a:pt x="118392" y="28738"/>
                </a:cubicBezTo>
                <a:cubicBezTo>
                  <a:pt x="99004" y="28738"/>
                  <a:pt x="82800" y="33384"/>
                  <a:pt x="69779" y="42677"/>
                </a:cubicBezTo>
                <a:cubicBezTo>
                  <a:pt x="56758" y="51969"/>
                  <a:pt x="47609" y="64445"/>
                  <a:pt x="42332" y="80105"/>
                </a:cubicBezTo>
                <a:cubicBezTo>
                  <a:pt x="37055" y="95764"/>
                  <a:pt x="34416" y="111911"/>
                  <a:pt x="34416" y="128546"/>
                </a:cubicBezTo>
                <a:cubicBezTo>
                  <a:pt x="34416" y="149999"/>
                  <a:pt x="37542" y="168727"/>
                  <a:pt x="43795" y="184731"/>
                </a:cubicBezTo>
                <a:cubicBezTo>
                  <a:pt x="50047" y="200734"/>
                  <a:pt x="59769" y="212694"/>
                  <a:pt x="72963" y="220610"/>
                </a:cubicBezTo>
                <a:cubicBezTo>
                  <a:pt x="86156" y="228526"/>
                  <a:pt x="100438" y="232484"/>
                  <a:pt x="115811" y="232484"/>
                </a:cubicBezTo>
                <a:cubicBezTo>
                  <a:pt x="134511" y="232484"/>
                  <a:pt x="150342" y="227092"/>
                  <a:pt x="163306" y="216308"/>
                </a:cubicBezTo>
                <a:cubicBezTo>
                  <a:pt x="176269" y="205524"/>
                  <a:pt x="185046" y="189520"/>
                  <a:pt x="189634" y="168297"/>
                </a:cubicBezTo>
                <a:lnTo>
                  <a:pt x="223018" y="176729"/>
                </a:lnTo>
                <a:cubicBezTo>
                  <a:pt x="216020" y="204147"/>
                  <a:pt x="203430" y="225055"/>
                  <a:pt x="185246" y="239453"/>
                </a:cubicBezTo>
                <a:cubicBezTo>
                  <a:pt x="167063" y="253850"/>
                  <a:pt x="144836" y="261049"/>
                  <a:pt x="118564" y="261049"/>
                </a:cubicBezTo>
                <a:cubicBezTo>
                  <a:pt x="91375" y="261049"/>
                  <a:pt x="69263" y="255514"/>
                  <a:pt x="52226" y="244443"/>
                </a:cubicBezTo>
                <a:cubicBezTo>
                  <a:pt x="35191" y="233373"/>
                  <a:pt x="22227" y="217340"/>
                  <a:pt x="13336" y="196346"/>
                </a:cubicBezTo>
                <a:cubicBezTo>
                  <a:pt x="4445" y="175352"/>
                  <a:pt x="0" y="152809"/>
                  <a:pt x="0" y="128718"/>
                </a:cubicBezTo>
                <a:cubicBezTo>
                  <a:pt x="0" y="102447"/>
                  <a:pt x="5019" y="79531"/>
                  <a:pt x="15057" y="59971"/>
                </a:cubicBezTo>
                <a:cubicBezTo>
                  <a:pt x="25095" y="40411"/>
                  <a:pt x="39378" y="25554"/>
                  <a:pt x="57905" y="15402"/>
                </a:cubicBezTo>
                <a:cubicBezTo>
                  <a:pt x="76433" y="5249"/>
                  <a:pt x="96825" y="172"/>
                  <a:pt x="119081" y="172"/>
                </a:cubicBezTo>
                <a:close/>
                <a:moveTo>
                  <a:pt x="377460" y="0"/>
                </a:moveTo>
                <a:cubicBezTo>
                  <a:pt x="400749" y="0"/>
                  <a:pt x="421743" y="5564"/>
                  <a:pt x="440442" y="16692"/>
                </a:cubicBezTo>
                <a:cubicBezTo>
                  <a:pt x="459142" y="27820"/>
                  <a:pt x="473396" y="43336"/>
                  <a:pt x="483205" y="63240"/>
                </a:cubicBezTo>
                <a:cubicBezTo>
                  <a:pt x="493014" y="83145"/>
                  <a:pt x="497918" y="105716"/>
                  <a:pt x="497918" y="130955"/>
                </a:cubicBezTo>
                <a:cubicBezTo>
                  <a:pt x="497918" y="156538"/>
                  <a:pt x="492756" y="179425"/>
                  <a:pt x="482431" y="199616"/>
                </a:cubicBezTo>
                <a:cubicBezTo>
                  <a:pt x="472106" y="219807"/>
                  <a:pt x="457479" y="235094"/>
                  <a:pt x="438549" y="245476"/>
                </a:cubicBezTo>
                <a:cubicBezTo>
                  <a:pt x="419620" y="255858"/>
                  <a:pt x="399200" y="261049"/>
                  <a:pt x="377288" y="261049"/>
                </a:cubicBezTo>
                <a:cubicBezTo>
                  <a:pt x="353541" y="261049"/>
                  <a:pt x="332317" y="255313"/>
                  <a:pt x="313618" y="243841"/>
                </a:cubicBezTo>
                <a:cubicBezTo>
                  <a:pt x="294918" y="232369"/>
                  <a:pt x="280750" y="216709"/>
                  <a:pt x="271113" y="196863"/>
                </a:cubicBezTo>
                <a:cubicBezTo>
                  <a:pt x="261477" y="177016"/>
                  <a:pt x="256658" y="156022"/>
                  <a:pt x="256658" y="133880"/>
                </a:cubicBezTo>
                <a:cubicBezTo>
                  <a:pt x="256658" y="92007"/>
                  <a:pt x="267901" y="59225"/>
                  <a:pt x="290387" y="35535"/>
                </a:cubicBezTo>
                <a:cubicBezTo>
                  <a:pt x="312872" y="11845"/>
                  <a:pt x="341896" y="0"/>
                  <a:pt x="377460" y="0"/>
                </a:cubicBezTo>
                <a:close/>
              </a:path>
            </a:pathLst>
          </a:custGeom>
          <a:gradFill rotWithShape="0">
            <a:gsLst>
              <a:gs pos="0">
                <a:srgbClr val="ee8672"/>
              </a:gs>
              <a:gs pos="100000">
                <a:srgbClr val="e0383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414-6396-4405-9456-1D4103DCD140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等腰三角形 15"/>
          <p:cNvGrpSpPr/>
          <p:nvPr/>
        </p:nvGrpSpPr>
        <p:grpSpPr>
          <a:xfrm>
            <a:off x="7143840" y="4145040"/>
            <a:ext cx="2189160" cy="1938240"/>
            <a:chOff x="7143840" y="4145040"/>
            <a:chExt cx="2189160" cy="1938240"/>
          </a:xfrm>
        </p:grpSpPr>
        <p:pic>
          <p:nvPicPr>
            <p:cNvPr id="214" name="等腰三角形 15" descr=""/>
            <p:cNvPicPr/>
            <p:nvPr/>
          </p:nvPicPr>
          <p:blipFill>
            <a:blip r:embed="rId2"/>
            <a:stretch/>
          </p:blipFill>
          <p:spPr>
            <a:xfrm>
              <a:off x="7143840" y="4145040"/>
              <a:ext cx="21891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3818600">
              <a:off x="8132040" y="4239000"/>
              <a:ext cx="27936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图片 9" descr=""/>
          <p:cNvPicPr/>
          <p:nvPr/>
        </p:nvPicPr>
        <p:blipFill>
          <a:blip r:embed="rId3"/>
          <a:stretch/>
        </p:blipFill>
        <p:spPr>
          <a:xfrm>
            <a:off x="7486560" y="3981600"/>
            <a:ext cx="165744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17" name="等腰三角形 15"/>
          <p:cNvGrpSpPr/>
          <p:nvPr/>
        </p:nvGrpSpPr>
        <p:grpSpPr>
          <a:xfrm>
            <a:off x="-189000" y="884160"/>
            <a:ext cx="2189160" cy="1932120"/>
            <a:chOff x="-189000" y="884160"/>
            <a:chExt cx="2189160" cy="1932120"/>
          </a:xfrm>
        </p:grpSpPr>
        <p:pic>
          <p:nvPicPr>
            <p:cNvPr id="218" name="等腰三角形 15" descr=""/>
            <p:cNvPicPr/>
            <p:nvPr/>
          </p:nvPicPr>
          <p:blipFill>
            <a:blip r:embed="rId4"/>
            <a:stretch/>
          </p:blipFill>
          <p:spPr>
            <a:xfrm>
              <a:off x="-189000" y="884160"/>
              <a:ext cx="21891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3018000">
              <a:off x="733320" y="873000"/>
              <a:ext cx="27792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图片 11" descr=""/>
          <p:cNvPicPr/>
          <p:nvPr/>
        </p:nvPicPr>
        <p:blipFill>
          <a:blip r:embed="rId5"/>
          <a:stretch/>
        </p:blipFill>
        <p:spPr>
          <a:xfrm>
            <a:off x="0" y="6480"/>
            <a:ext cx="1657440" cy="2876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351-F37A-4D69-BFFF-8E99E4547AB8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D60D-0C87-4AC8-9243-C8FB27ACD477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1250-3313-4336-BB72-36E6969053EC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gradFill rotWithShape="0">
            <a:gsLst>
              <a:gs pos="0">
                <a:srgbClr val="f0895e"/>
              </a:gs>
              <a:gs pos="100000">
                <a:srgbClr val="e03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2360" y="112680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22360" y="1833120"/>
            <a:ext cx="80992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408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12240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73280" indent="-113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7000" indent="-95040">
              <a:lnSpc>
                <a:spcPct val="13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7000" indent="-9504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52200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029040" y="6401880"/>
            <a:ext cx="30859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65680" y="6401880"/>
            <a:ext cx="20574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48D9-1609-4094-BB84-175387AEA704}" type="slidenum">
              <a:rPr b="0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4-&#20854;&#20182;&#26448;&#26009;/3.2024&#23626;&#23398;&#29983;&#27605;&#19994;&#35774;&#35745;-&#27169;&#26495;/2-2020406291&#26446;&#26576;&#26576;-&#20219;&#21153;&#20070;.pdf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1.&#27721;&#35821;&#35328;&#25991;&#23398;(&#24072;&#33539;)&#27605;&#19994;&#35770;&#25991;&#25945;&#23398;&#22823;&#32434;.pdf" TargetMode="External"/><Relationship Id="rId2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1.&#27721;&#35821;&#35328;&#25991;&#23398;(&#24072;&#33539;)&#27605;&#19994;&#35770;&#25991;&#25945;&#23398;&#22823;&#32434;.pdf" TargetMode="External"/><Relationship Id="rId3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2.&#25991;&#23398;&#38498;2024&#23626;&#26412;&#31185;&#27605;&#19994;&#35770;&#25991;&#24037;&#20316;&#35745;&#21010;.pdf" TargetMode="External"/><Relationship Id="rId4" Type="http://schemas.openxmlformats.org/officeDocument/2006/relationships/hyperlink" Target="file:///2.&#23398;&#38498;&#27605;&#19994;&#35770;&#25991;&#24037;&#20316;&#26448;&#26009;--&#27169;&#26495;/&#25991;&#23398;&#38498;2024&#23626;&#26412;&#31185;&#27605;&#19994;&#35770;&#25991;&#24037;&#20316;&#26448;&#26009;/3.&#25991;&#23398;&#38498;2024&#23626;&#27605;&#19994;&#35770;&#25991;&#36873;&#39064;&#25351;&#21335;.xls" TargetMode="External"/><Relationship Id="rId5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3.&#25991;&#23398;&#38498;2024&#23626;&#27605;&#19994;&#35770;&#25991;&#36873;&#39064;&#25351;&#21335;.pdf" TargetMode="External"/><Relationship Id="rId6" Type="http://schemas.openxmlformats.org/officeDocument/2006/relationships/hyperlink" Target="file:///2.&#23398;&#38498;&#27605;&#19994;&#35770;&#25991;&#24037;&#20316;&#26448;&#26009;--&#27169;&#26495;/&#25991;&#23398;&#38498;2024&#23626;&#26412;&#31185;&#27605;&#19994;&#35770;&#25991;&#24037;&#20316;&#26448;&#26009;/3.&#25991;&#23398;&#38498;2024&#23626;&#27605;&#19994;&#35770;&#25991;&#36873;&#39064;&#25351;&#21335;.xls" TargetMode="External"/><Relationship Id="rId7" Type="http://schemas.openxmlformats.org/officeDocument/2006/relationships/hyperlink" Target="file:///4-&#20854;&#20182;&#26448;&#26009;/1.&#23398;&#38498;&#27605;&#19994;&#35770;&#25991;&#24037;&#20316;&#26448;&#26009;--&#27169;&#26495;/2-&#29983;&#29289;&#31185;&#23398;&#65288;&#24072;&#33539;&#65289;&#19987;&#19994;2025&#23626;&#27605;&#19994;&#35770;&#25991;&#36873;&#39064;&#25351;&#21335;.pdf" TargetMode="External"/><Relationship Id="rId8" Type="http://schemas.openxmlformats.org/officeDocument/2006/relationships/hyperlink" Target="file:///2.&#23398;&#38498;&#27605;&#19994;&#35770;&#25991;&#24037;&#20316;&#26448;&#26009;--&#27169;&#26495;/&#25991;&#23398;&#38498;2024&#23626;&#26412;&#31185;&#27605;&#19994;&#35770;&#25991;&#24037;&#20316;&#26448;&#26009;/3.&#25991;&#23398;&#38498;2024&#23626;&#27605;&#19994;&#35770;&#25991;&#36873;&#39064;&#25351;&#21335;.xls" TargetMode="External"/><Relationship Id="rId9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4.&#25991;&#23398;&#38498;&#26412;&#31185;&#27605;&#19994;&#35770;&#25991;&#25991;&#26723;&#26448;&#26009;&#35268;&#33539;&#35201;&#27714;&#21450;&#27169;&#29256;.pdf" TargetMode="External"/><Relationship Id="rId10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5.&#25991;&#23398;&#38498;2024&#23626;&#27605;&#19994;&#35770;&#25991;&#25104;&#32489;.pdf" TargetMode="External"/><Relationship Id="rId11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6.&#25991;&#23398;&#38498;2024&#23626;&#26412;&#31185;&#27605;&#19994;&#35770;&#25991;&#24037;&#20316;&#24635;&#32467;.pdf" TargetMode="External"/><Relationship Id="rId12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6.&#25991;&#23398;&#38498;2024&#23626;&#26412;&#31185;&#27605;&#19994;&#35770;&#25991;&#24037;&#20316;&#24635;&#32467;.pdf" TargetMode="External"/><Relationship Id="rId13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6.&#25991;&#23398;&#38498;2024&#23626;&#26412;&#31185;&#27605;&#19994;&#35770;&#25991;&#24037;&#20316;&#24635;&#32467;.pdf" TargetMode="External"/><Relationship Id="rId14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6.&#25991;&#23398;&#38498;2024&#23626;&#26412;&#31185;&#27605;&#19994;&#35770;&#25991;&#24037;&#20316;&#24635;&#32467;.pdf" TargetMode="External"/><Relationship Id="rId15" Type="http://schemas.openxmlformats.org/officeDocument/2006/relationships/hyperlink" Target="file:///4-&#20854;&#20182;&#26448;&#26009;/1.&#23398;&#38498;&#27605;&#19994;&#35770;&#25991;&#24037;&#20316;&#26448;&#26009;--&#27169;&#26495;/&#25991;&#23398;&#38498;2024&#23626;&#26412;&#31185;&#27605;&#19994;&#35770;&#25991;&#24037;&#20316;&#26448;&#26009;/6.&#25991;&#23398;&#38498;2024&#23626;&#26412;&#31185;&#27605;&#19994;&#35770;&#25991;&#24037;&#20316;&#24635;&#32467;.pdf" TargetMode="Externa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4-&#20854;&#20182;&#26448;&#26009;/6.&#31572;&#36777;&#35760;&#24405;--&#38169;&#35823;&#33539;&#20363;.png" TargetMode="External"/><Relationship Id="rId2" Type="http://schemas.openxmlformats.org/officeDocument/2006/relationships/hyperlink" Target="file:///4-&#20854;&#20182;&#26448;&#26009;/7.&#31572;&#36777;&#23567;&#32452;&#24847;&#35265;--&#38169;&#35823;&#33539;&#20363;.png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4-&#20854;&#20182;&#26448;&#26009;/2.2024&#23626;&#23398;&#29983;&#27605;&#19994;&#35770;&#25991;-&#27169;&#26495;/2020411319&#20851;&#26576;&#26576;/1-2020411319&#20851;&#26576;&#26576;%20%20&#24320;&#39064;&#25253;&#21578;.pdf" TargetMode="External"/><Relationship Id="rId3" Type="http://schemas.openxmlformats.org/officeDocument/2006/relationships/hyperlink" Target="file:///4-&#20854;&#20182;&#26448;&#26009;/2.2024&#23626;&#23398;&#29983;&#27605;&#19994;&#35770;&#25991;-&#27169;&#26495;/2020411319&#20851;&#26576;&#26576;/3-2020411319&#20851;&#26576;&#26576;%20%20&#27605;&#19994;&#35770;&#25991;&#26368;&#32456;&#31295;.pdf" TargetMode="External"/><Relationship Id="rId4" Type="http://schemas.openxmlformats.org/officeDocument/2006/relationships/hyperlink" Target="file:///4-&#20854;&#20182;&#26448;&#26009;/2.2024&#23626;&#23398;&#29983;&#27605;&#19994;&#35770;&#25991;-&#27169;&#26495;/2020411319&#20851;&#26576;&#26576;/4-2020411319&#20851;&#26576;&#26576;%20%20&#27605;&#19994;&#35770;&#25991;&#26368;&#32456;&#31295;%20&#26597;&#37325;&#26816;&#27979;&#25253;&#21578;1.pdf" TargetMode="External"/><Relationship Id="rId5" Type="http://schemas.openxmlformats.org/officeDocument/2006/relationships/hyperlink" Target="file:///4-&#20854;&#20182;&#26448;&#26009;/2.2024&#23626;&#23398;&#29983;&#27605;&#19994;&#35770;&#25991;-&#27169;&#26495;/2020411319&#20851;&#26576;&#26576;/4-2020411319&#20851;&#26576;&#26576;%20%20&#27605;&#19994;&#35770;&#25991;&#26368;&#32456;&#31295;%20&#26597;&#37325;&#26816;&#27979;&#25253;&#21578;1.pdf" TargetMode="External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2.&#27605;&#19994;&#35770;&#25991;-&#27169;&#26495;/2020411319&#20851;&#26576;&#26576;/2020411319%20&#20851;&#26576;&#26576;%20&#27605;&#19994;&#35770;&#25991;&#26448;&#26009;.pdf" TargetMode="External"/><Relationship Id="rId3" Type="http://schemas.openxmlformats.org/officeDocument/2006/relationships/hyperlink" Target="file:///1-2024&#23626;&#23398;&#29983;&#27605;&#19994;&#35770;&#25991;&#35780;&#20272;&#35013;&#35746;&#27169;&#26495;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6800" y="1068480"/>
            <a:ext cx="8413560" cy="26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科教育教学审核评估</a:t>
            </a:r>
            <a:br>
              <a:rPr sz="4800"/>
            </a:br>
            <a:r>
              <a:rPr b="1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系统上传档案材料规范培训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6600" y="5122440"/>
            <a:ext cx="4332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1800" spc="-1" strike="noStrike">
                <a:solidFill>
                  <a:srgbClr val="c00000"/>
                </a:solidFill>
                <a:latin typeface="Arial"/>
              </a:rPr>
              <a:t>教务处实践教学科  郭云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"/>
          <p:cNvSpPr/>
          <p:nvPr/>
        </p:nvSpPr>
        <p:spPr>
          <a:xfrm>
            <a:off x="2759400" y="38257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00000"/>
                </a:solidFill>
                <a:latin typeface="Arial"/>
              </a:rPr>
              <a:t>本科毕业论文（设计）等材料相关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标题 1" descr=""/>
          <p:cNvPicPr/>
          <p:nvPr/>
        </p:nvPicPr>
        <p:blipFill>
          <a:blip r:embed="rId1"/>
          <a:stretch/>
        </p:blipFill>
        <p:spPr>
          <a:xfrm>
            <a:off x="768240" y="590400"/>
            <a:ext cx="8101080" cy="5432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892080" y="1704960"/>
            <a:ext cx="72770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毕业设计任务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业设计指导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业设计最终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终稿查重简洁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业设计作品附件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标题 1" descr=""/>
          <p:cNvPicPr/>
          <p:nvPr/>
        </p:nvPicPr>
        <p:blipFill>
          <a:blip r:embed="rId1"/>
          <a:stretch/>
        </p:blipFill>
        <p:spPr>
          <a:xfrm>
            <a:off x="523800" y="450720"/>
            <a:ext cx="8096400" cy="652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286920" y="1612440"/>
            <a:ext cx="87742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二）毕业设计材料装订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设计任务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设计指导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指导进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成绩评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答辩记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设计最终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查重报告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设计作品或附件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4"/>
          <p:cNvSpPr/>
          <p:nvPr/>
        </p:nvSpPr>
        <p:spPr>
          <a:xfrm>
            <a:off x="1832400" y="6226200"/>
            <a:ext cx="51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三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02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届学生毕业设计 审核评估材料（装订模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矩形 5" descr=""/>
          <p:cNvPicPr/>
          <p:nvPr/>
        </p:nvPicPr>
        <p:blipFill>
          <a:blip r:embed="rId2"/>
          <a:stretch/>
        </p:blipFill>
        <p:spPr>
          <a:xfrm>
            <a:off x="85680" y="1000080"/>
            <a:ext cx="8570880" cy="676440"/>
          </a:xfrm>
          <a:prstGeom prst="rect">
            <a:avLst/>
          </a:prstGeom>
          <a:ln w="0">
            <a:noFill/>
          </a:ln>
        </p:spPr>
      </p:pic>
      <p:pic>
        <p:nvPicPr>
          <p:cNvPr id="595" name="矩形 3" descr=""/>
          <p:cNvPicPr/>
          <p:nvPr/>
        </p:nvPicPr>
        <p:blipFill>
          <a:blip r:embed="rId3"/>
          <a:stretch/>
        </p:blipFill>
        <p:spPr>
          <a:xfrm>
            <a:off x="4718160" y="5486400"/>
            <a:ext cx="4243320" cy="768240"/>
          </a:xfrm>
          <a:prstGeom prst="rect">
            <a:avLst/>
          </a:prstGeom>
          <a:ln w="0">
            <a:noFill/>
          </a:ln>
        </p:spPr>
      </p:pic>
      <p:pic>
        <p:nvPicPr>
          <p:cNvPr id="596" name="文本框 6" descr=""/>
          <p:cNvPicPr/>
          <p:nvPr/>
        </p:nvPicPr>
        <p:blipFill>
          <a:blip r:embed="rId4"/>
          <a:stretch/>
        </p:blipFill>
        <p:spPr>
          <a:xfrm>
            <a:off x="4840200" y="2266920"/>
            <a:ext cx="4065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标题 1" descr=""/>
          <p:cNvPicPr/>
          <p:nvPr/>
        </p:nvPicPr>
        <p:blipFill>
          <a:blip r:embed="rId1"/>
          <a:stretch/>
        </p:blipFill>
        <p:spPr>
          <a:xfrm>
            <a:off x="523800" y="450720"/>
            <a:ext cx="8096400" cy="652680"/>
          </a:xfrm>
          <a:prstGeom prst="rect">
            <a:avLst/>
          </a:prstGeom>
          <a:ln w="0">
            <a:noFill/>
          </a:ln>
        </p:spPr>
      </p:pic>
      <p:pic>
        <p:nvPicPr>
          <p:cNvPr id="598" name="矩形 4" descr=""/>
          <p:cNvPicPr/>
          <p:nvPr/>
        </p:nvPicPr>
        <p:blipFill>
          <a:blip r:embed="rId2"/>
          <a:stretch/>
        </p:blipFill>
        <p:spPr>
          <a:xfrm>
            <a:off x="530280" y="1200240"/>
            <a:ext cx="8364600" cy="903240"/>
          </a:xfrm>
          <a:prstGeom prst="rect">
            <a:avLst/>
          </a:prstGeom>
          <a:ln w="0">
            <a:noFill/>
          </a:ln>
        </p:spPr>
      </p:pic>
      <p:sp>
        <p:nvSpPr>
          <p:cNvPr id="599" name="内容占位符 3"/>
          <p:cNvSpPr/>
          <p:nvPr/>
        </p:nvSpPr>
        <p:spPr>
          <a:xfrm>
            <a:off x="522360" y="1936800"/>
            <a:ext cx="8099280" cy="31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二）毕业论文材料装订目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本科生毕业论文（设计）过程管理手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（设计）最终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查重报告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、毕业设计作品或附件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8"/>
          <p:cNvSpPr/>
          <p:nvPr/>
        </p:nvSpPr>
        <p:spPr>
          <a:xfrm>
            <a:off x="1756080" y="587232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三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0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届学生毕业论文（设计） 审核评估材料（装订模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矩形 5" descr=""/>
          <p:cNvPicPr/>
          <p:nvPr/>
        </p:nvPicPr>
        <p:blipFill>
          <a:blip r:embed="rId3"/>
          <a:stretch/>
        </p:blipFill>
        <p:spPr>
          <a:xfrm>
            <a:off x="4913280" y="4608360"/>
            <a:ext cx="3992760" cy="774720"/>
          </a:xfrm>
          <a:prstGeom prst="rect">
            <a:avLst/>
          </a:prstGeom>
          <a:ln w="0">
            <a:noFill/>
          </a:ln>
        </p:spPr>
      </p:pic>
      <p:pic>
        <p:nvPicPr>
          <p:cNvPr id="602" name="文本框 6" descr=""/>
          <p:cNvPicPr/>
          <p:nvPr/>
        </p:nvPicPr>
        <p:blipFill>
          <a:blip r:embed="rId4"/>
          <a:stretch/>
        </p:blipFill>
        <p:spPr>
          <a:xfrm>
            <a:off x="4840200" y="2266920"/>
            <a:ext cx="4065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14000" y="298080"/>
            <a:ext cx="85186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本科生毕业论文（设计）过程管理手册 （下载路径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22360" y="1910880"/>
            <a:ext cx="8099280" cy="365436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" descr=""/>
          <p:cNvPicPr/>
          <p:nvPr/>
        </p:nvPicPr>
        <p:blipFill>
          <a:blip r:embed="rId2"/>
          <a:srcRect l="0" t="0" r="29550" b="18419"/>
          <a:stretch/>
        </p:blipFill>
        <p:spPr>
          <a:xfrm>
            <a:off x="271440" y="1746360"/>
            <a:ext cx="8601120" cy="5111640"/>
          </a:xfrm>
          <a:prstGeom prst="rect">
            <a:avLst/>
          </a:prstGeom>
          <a:ln w="0">
            <a:noFill/>
          </a:ln>
        </p:spPr>
      </p:pic>
      <p:sp>
        <p:nvSpPr>
          <p:cNvPr id="606" name="文本框 4"/>
          <p:cNvSpPr/>
          <p:nvPr/>
        </p:nvSpPr>
        <p:spPr>
          <a:xfrm>
            <a:off x="414360" y="101448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维普毕业论（设计）管理系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载中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件下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归档材料下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载全部（选中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下载版本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版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版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吉首大学过程管理手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2360" y="326880"/>
            <a:ext cx="80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000" spc="-1" strike="noStrike">
                <a:solidFill>
                  <a:srgbClr val="c00000"/>
                </a:solidFill>
                <a:latin typeface="Arial"/>
              </a:rPr>
              <a:t>六、毕业论文（设计）清单 填写要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内容占位符 2" descr=""/>
          <p:cNvPicPr/>
          <p:nvPr/>
        </p:nvPicPr>
        <p:blipFill>
          <a:blip r:embed="rId1"/>
          <a:stretch/>
        </p:blipFill>
        <p:spPr>
          <a:xfrm>
            <a:off x="146160" y="993600"/>
            <a:ext cx="8955000" cy="5102280"/>
          </a:xfrm>
          <a:prstGeom prst="rect">
            <a:avLst/>
          </a:prstGeom>
          <a:ln w="0">
            <a:noFill/>
          </a:ln>
        </p:spPr>
      </p:pic>
      <p:sp>
        <p:nvSpPr>
          <p:cNvPr id="609" name="矩形 2"/>
          <p:cNvSpPr/>
          <p:nvPr/>
        </p:nvSpPr>
        <p:spPr>
          <a:xfrm>
            <a:off x="6023520" y="60530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（毕业论文（设计）清单模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426960" y="205920"/>
            <a:ext cx="8501040" cy="65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所属院系名称、所属校内专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材料清单表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宋体"/>
              </a:rPr>
              <a:t>5.1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专业清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持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是否实现电子化管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、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（设计）考核材料是否齐全：具体参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做好本科教育教学审核评估教学档案自查自纠工作的通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吉大评发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宋体"/>
              </a:rPr>
              <a:t>(2024)4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中，毕业论文（设计）考核材料归档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考核材料存放地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具体存放地点（如：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教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宋体"/>
              </a:rPr>
              <a:t>307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（设计）考核材料管理负责人：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管理人姓名（具体保管人员，调阅材料时能即刻联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标题 1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15280" cy="7556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220680" y="907560"/>
            <a:ext cx="868536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统计时点为当前，即</a:t>
            </a:r>
            <a:r>
              <a:rPr b="1" lang="en-US" sz="2400" spc="-1" strike="noStrike">
                <a:solidFill>
                  <a:srgbClr val="bd3217"/>
                </a:solidFill>
                <a:latin typeface="宋体"/>
                <a:ea typeface="宋体"/>
              </a:rPr>
              <a:t>2025</a:t>
            </a:r>
            <a:r>
              <a:rPr b="1" lang="zh-CN" sz="2400" spc="-1" strike="noStrike">
                <a:solidFill>
                  <a:srgbClr val="bd3217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bd3217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bd3217"/>
                </a:solidFill>
                <a:latin typeface="宋体"/>
                <a:ea typeface="宋体"/>
              </a:rPr>
              <a:t>月</a:t>
            </a:r>
            <a:r>
              <a:rPr b="1" lang="en-US" sz="2400" spc="-1" strike="noStrike">
                <a:solidFill>
                  <a:srgbClr val="bd3217"/>
                </a:solidFill>
                <a:latin typeface="宋体"/>
                <a:ea typeface="宋体"/>
              </a:rPr>
              <a:t>31</a:t>
            </a:r>
            <a:r>
              <a:rPr b="1" lang="zh-CN" sz="2400" spc="-1" strike="noStrike">
                <a:solidFill>
                  <a:srgbClr val="bd3217"/>
                </a:solidFill>
                <a:latin typeface="宋体"/>
                <a:ea typeface="宋体"/>
              </a:rPr>
              <a:t>日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地名称、建立年份主、要面向校内专业（大类）名称：与本科状态数据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-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校内外实习、实践、实训基地，面向校内专业保持一致，可结合实际情况进行补充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bd3217"/>
                </a:solidFill>
                <a:latin typeface="宋体"/>
                <a:ea typeface="宋体"/>
              </a:rPr>
              <a:t>同一学院、同一基地有多个专业，填写一条数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地址：基地具体地址。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街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门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校内联系人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学院主管领导或专业负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地联系人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能联系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基地负责人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请再次致电确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校内联系人联系方式、基地联系人联系方式：办公室电话或个人电话号码（保证能及时联系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全年已接纳学生总数：全年已接纳学生人次数。以本科状态数据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-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校内外实习、实践、实训基地为基础，审核评估参评时情况，可结合实际情况进行补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矩形 1" descr=""/>
          <p:cNvPicPr/>
          <p:nvPr/>
        </p:nvPicPr>
        <p:blipFill>
          <a:blip r:embed="rId1"/>
          <a:stretch/>
        </p:blipFill>
        <p:spPr>
          <a:xfrm>
            <a:off x="523800" y="549360"/>
            <a:ext cx="7881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22360" y="449280"/>
            <a:ext cx="809928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522360" y="1910880"/>
            <a:ext cx="8099280" cy="365436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6" descr=""/>
          <p:cNvPicPr/>
          <p:nvPr/>
        </p:nvPicPr>
        <p:blipFill>
          <a:blip r:embed="rId2"/>
          <a:srcRect l="10362" t="14547" r="9092" b="18669"/>
          <a:stretch/>
        </p:blipFill>
        <p:spPr>
          <a:xfrm>
            <a:off x="0" y="0"/>
            <a:ext cx="916308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标题 1" descr=""/>
          <p:cNvPicPr/>
          <p:nvPr/>
        </p:nvPicPr>
        <p:blipFill>
          <a:blip r:embed="rId1"/>
          <a:stretch/>
        </p:blipFill>
        <p:spPr>
          <a:xfrm>
            <a:off x="396720" y="622440"/>
            <a:ext cx="8101080" cy="5410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396720" y="1723680"/>
            <a:ext cx="85060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学院毕业论文（设计）工作材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学生毕业（设计）论文材料及注意事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届学生毕业</a:t>
            </a:r>
            <a:r>
              <a:rPr b="0" sz="2500" spc="-1" strike="noStrike">
                <a:solidFill>
                  <a:srgbClr val="0000cc"/>
                </a:solidFill>
                <a:latin typeface="Arial"/>
              </a:rPr>
              <a:t>论文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 审核评估调阅材料装订要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届学生毕业</a:t>
            </a:r>
            <a:r>
              <a:rPr b="0" sz="2500" spc="-1" strike="noStrike">
                <a:solidFill>
                  <a:srgbClr val="bd3217"/>
                </a:solidFill>
                <a:latin typeface="Arial"/>
              </a:rPr>
              <a:t>设计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 审核评估调阅材料装订要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2025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届学生毕业论文（设计） 审核评估调阅材料装订要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500" spc="-1" strike="noStrike">
                <a:solidFill>
                  <a:srgbClr val="000000"/>
                </a:solidFill>
                <a:latin typeface="Arial"/>
              </a:rPr>
              <a:t>毕业论文（设计）清单填写注意事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实习实训基地</a:t>
            </a:r>
            <a:r>
              <a:rPr b="0" sz="2500" spc="-1" strike="noStrike">
                <a:solidFill>
                  <a:srgbClr val="000000"/>
                </a:solidFill>
                <a:latin typeface="Arial"/>
              </a:rPr>
              <a:t>清单填写注意事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2360" y="676080"/>
            <a:ext cx="80992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Arial"/>
              </a:rPr>
              <a:t>一、学院毕业论文（设计）工作材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内容占位符 2"/>
          <p:cNvSpPr/>
          <p:nvPr/>
        </p:nvSpPr>
        <p:spPr>
          <a:xfrm>
            <a:off x="603360" y="1538280"/>
            <a:ext cx="818352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1、毕业论文（设计）教学大纲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    </a:t>
            </a:r>
            <a:br>
              <a:rPr sz="2400"/>
            </a:b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2、本科毕业论文（设计）工作计划或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3、本科毕业论文（设计）选题指南（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学院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或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专业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9"/>
              </a:rPr>
              <a:t>4、本科毕业论文(设计)书写规范格式及要求_x000b_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0"/>
              </a:rPr>
              <a:t>5、本科毕业论文（设计）成绩总表</a:t>
            </a:r>
            <a:br>
              <a:rPr sz="2400"/>
            </a:b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1"/>
              </a:rPr>
              <a:t>6、本科毕业论文（设计）工作总结（学院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 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3"/>
              </a:rPr>
              <a:t>或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4"/>
              </a:rPr>
              <a:t> 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5"/>
              </a:rPr>
              <a:t>专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文本框 1" descr=""/>
          <p:cNvPicPr/>
          <p:nvPr/>
        </p:nvPicPr>
        <p:blipFill>
          <a:blip r:embed="rId16"/>
          <a:stretch/>
        </p:blipFill>
        <p:spPr>
          <a:xfrm>
            <a:off x="6986520" y="6114960"/>
            <a:ext cx="12128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标题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27244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"/>
          <p:cNvGraphicFramePr/>
          <p:nvPr/>
        </p:nvGraphicFramePr>
        <p:xfrm>
          <a:off x="227160" y="1406520"/>
          <a:ext cx="8521560" cy="5338800"/>
        </p:xfrm>
        <a:graphic>
          <a:graphicData uri="http://schemas.openxmlformats.org/drawingml/2006/table">
            <a:tbl>
              <a:tblPr/>
              <a:tblGrid>
                <a:gridCol w="828360"/>
                <a:gridCol w="3252960"/>
                <a:gridCol w="4440240"/>
              </a:tblGrid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e5ff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2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eec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2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eecd7"/>
                    </a:solidFill>
                  </a:tcPr>
                </a:tc>
              </a:tr>
              <a:tr h="539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论文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e5ff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开题报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（设计）过程管理手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（包含任务书、开题报告、指导进程表、成绩评审表、答辩记录表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指导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最终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最终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最终稿查重简洁报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最终稿查重简洁报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052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设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e5ff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设计任务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论文（设计）过程管理手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（包含任务书、开题报告、指导进程表、成绩评审表、答辩记录表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设计指导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设计最终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设计最终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最终稿查重简洁报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最终稿查重简洁报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计作品附件材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毕业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计作品附件材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8"/>
                      </a:solidFill>
                    </a:lnL>
                    <a:lnR w="2880">
                      <a:solidFill>
                        <a:srgbClr val="000008"/>
                      </a:solidFill>
                    </a:lnR>
                    <a:lnT w="2880">
                      <a:solidFill>
                        <a:srgbClr val="000008"/>
                      </a:solidFill>
                    </a:lnT>
                    <a:lnB w="2880">
                      <a:solidFill>
                        <a:srgbClr val="000008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2360" y="449280"/>
            <a:ext cx="809928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注意事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内容占位符 2" descr=""/>
          <p:cNvPicPr/>
          <p:nvPr/>
        </p:nvPicPr>
        <p:blipFill>
          <a:blip r:embed="rId1"/>
          <a:stretch/>
        </p:blipFill>
        <p:spPr>
          <a:xfrm>
            <a:off x="225360" y="1116000"/>
            <a:ext cx="8290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标题 1" descr=""/>
          <p:cNvPicPr/>
          <p:nvPr/>
        </p:nvPicPr>
        <p:blipFill>
          <a:blip r:embed="rId1"/>
          <a:stretch/>
        </p:blipFill>
        <p:spPr>
          <a:xfrm>
            <a:off x="500040" y="347760"/>
            <a:ext cx="8101080" cy="536400"/>
          </a:xfrm>
          <a:prstGeom prst="rect">
            <a:avLst/>
          </a:prstGeom>
          <a:ln w="0">
            <a:noFill/>
          </a:ln>
        </p:spPr>
      </p:pic>
      <p:pic>
        <p:nvPicPr>
          <p:cNvPr id="580" name="内容占位符 2" descr=""/>
          <p:cNvPicPr/>
          <p:nvPr/>
        </p:nvPicPr>
        <p:blipFill>
          <a:blip r:embed="rId2"/>
          <a:stretch/>
        </p:blipFill>
        <p:spPr>
          <a:xfrm>
            <a:off x="281160" y="1122480"/>
            <a:ext cx="861372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531360" y="574560"/>
            <a:ext cx="8101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2800" spc="-1" strike="noStrike">
                <a:solidFill>
                  <a:srgbClr val="0000cc"/>
                </a:solidFill>
                <a:latin typeface="宋体"/>
                <a:ea typeface="宋体"/>
              </a:rPr>
              <a:t>（</a:t>
            </a:r>
            <a:r>
              <a:rPr b="1" sz="28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sz="2800" spc="-1" strike="noStrike">
                <a:solidFill>
                  <a:srgbClr val="0000cc"/>
                </a:solidFill>
                <a:latin typeface="宋体"/>
                <a:ea typeface="宋体"/>
              </a:rPr>
              <a:t>）答辩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sz="2800" spc="-1" strike="noStrike">
                <a:solidFill>
                  <a:srgbClr val="c00000"/>
                </a:solidFill>
                <a:latin typeface="宋体"/>
                <a:ea typeface="宋体"/>
              </a:rPr>
              <a:t>答辩中提出的主要问题及回答的简要情况记录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”需填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答辩提出的问题（具有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专业性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、至少三个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回答问题的要点（一般不少于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字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宋体"/>
                <a:ea typeface="宋体"/>
                <a:hlinkClick r:id="rId1"/>
              </a:rPr>
              <a:t>常见问题示例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sz="2800" spc="-1" strike="noStrike">
                <a:solidFill>
                  <a:srgbClr val="c00000"/>
                </a:solidFill>
                <a:latin typeface="宋体"/>
                <a:ea typeface="宋体"/>
              </a:rPr>
              <a:t>答辩小组意见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”应体现学生论文的完成情况、回答问题的准确性、知识的熟练程度、回答问题所体现的知识掌握程度和运用能力；（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宋体"/>
                <a:ea typeface="宋体"/>
                <a:hlinkClick r:id="rId2"/>
              </a:rPr>
              <a:t>常见问题示例</a:t>
            </a: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0" sz="2800" spc="-1" strike="noStrike">
                <a:solidFill>
                  <a:srgbClr val="c00000"/>
                </a:solidFill>
                <a:latin typeface="宋体"/>
                <a:ea typeface="宋体"/>
              </a:rPr>
              <a:t>4</a:t>
            </a:r>
            <a:r>
              <a:rPr b="0" sz="2800" spc="-1" strike="noStrike">
                <a:solidFill>
                  <a:srgbClr val="c00000"/>
                </a:solidFill>
                <a:latin typeface="宋体"/>
                <a:ea typeface="宋体"/>
              </a:rPr>
              <a:t>）签名和时间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  <a:ea typeface="宋体"/>
              </a:rPr>
              <a:t>所有签名为：</a:t>
            </a:r>
            <a:r>
              <a:rPr b="1" sz="2800" spc="-1" strike="noStrike">
                <a:solidFill>
                  <a:srgbClr val="c00000"/>
                </a:solidFill>
                <a:latin typeface="Arial"/>
              </a:rPr>
              <a:t>手写、电子签，注意指导进程的时间前后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3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标题 1" descr=""/>
          <p:cNvPicPr/>
          <p:nvPr/>
        </p:nvPicPr>
        <p:blipFill>
          <a:blip r:embed="rId1"/>
          <a:stretch/>
        </p:blipFill>
        <p:spPr>
          <a:xfrm>
            <a:off x="811080" y="781200"/>
            <a:ext cx="7643880" cy="541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1439640" y="1976040"/>
            <a:ext cx="61275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1.毕业论文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毕业论文指导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3.毕业论文最终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2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4.最终稿查重简洁</a:t>
            </a:r>
            <a:r>
              <a:rPr b="0" sz="28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标题 1" descr=""/>
          <p:cNvPicPr/>
          <p:nvPr/>
        </p:nvPicPr>
        <p:blipFill>
          <a:blip r:embed="rId1"/>
          <a:stretch/>
        </p:blipFill>
        <p:spPr>
          <a:xfrm>
            <a:off x="523800" y="450720"/>
            <a:ext cx="8096400" cy="652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984240" y="1765440"/>
            <a:ext cx="47037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二）毕业论文材料装订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开题报告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指导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指导进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成绩评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答辩记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毕业论文最终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查重报告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"/>
          <p:cNvSpPr/>
          <p:nvPr/>
        </p:nvSpPr>
        <p:spPr>
          <a:xfrm>
            <a:off x="2314800" y="6124680"/>
            <a:ext cx="46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（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三）2024届学生毕业论文 审核评估材料（模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矩形 5" descr=""/>
          <p:cNvPicPr/>
          <p:nvPr/>
        </p:nvPicPr>
        <p:blipFill>
          <a:blip r:embed="rId4"/>
          <a:stretch/>
        </p:blipFill>
        <p:spPr>
          <a:xfrm>
            <a:off x="762120" y="1073160"/>
            <a:ext cx="8358120" cy="907920"/>
          </a:xfrm>
          <a:prstGeom prst="rect">
            <a:avLst/>
          </a:prstGeom>
          <a:ln w="0">
            <a:noFill/>
          </a:ln>
        </p:spPr>
      </p:pic>
      <p:pic>
        <p:nvPicPr>
          <p:cNvPr id="588" name="文本框 2" descr=""/>
          <p:cNvPicPr/>
          <p:nvPr/>
        </p:nvPicPr>
        <p:blipFill>
          <a:blip r:embed="rId5"/>
          <a:stretch/>
        </p:blipFill>
        <p:spPr>
          <a:xfrm>
            <a:off x="4840200" y="2266920"/>
            <a:ext cx="4065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/>
  <dc:description/>
  <dc:language>en-US</dc:language>
  <cp:lastModifiedBy>China</cp:lastModifiedBy>
  <dcterms:modified xsi:type="dcterms:W3CDTF">2025-06-05T11:01:11Z</dcterms:modified>
  <cp:revision>224</cp:revision>
  <dc:subject/>
  <dc:title>空白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DE4B013BA0C467FAA8181D26C16C508_11</vt:lpwstr>
  </property>
  <property fmtid="{D5CDD505-2E9C-101B-9397-08002B2CF9AE}" pid="3" name="KSOProductBuildVer">
    <vt:lpwstr>2052-12.1.0.20784</vt:lpwstr>
  </property>
</Properties>
</file>